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272-F7CE-4F24-8E10-0E287C3A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2EF-1956-457D-B2D1-111F50FC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6AE-F41A-4D7A-95DF-278E3B2F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B40-DD43-4923-86E7-C264C9C1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2C05-0EEC-4A57-9229-6966CAC7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ABDC-2E78-4047-A743-AC39DBE0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7CC9-27BC-4D37-87C5-687E9F97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710D-07BC-4622-BA23-0F5AB160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1DAA-1844-4BE1-9A4E-EFFD3E41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370B-07B1-4200-96F9-3CA25C49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ECF1-8205-4E92-A662-04C0C94A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7A1-D9C8-46E9-B204-35A62E18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2118-3629-4F2F-9F5E-53382200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122E-07B7-4BCC-98B0-CD282A4A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5D58-8360-465C-BF92-D06AAE6B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A168-CED2-4A86-A458-200DC52B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9530-0153-4622-906A-D40D2B2C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51F-C4A7-4A23-9102-7367366E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F97-B08D-4062-8955-06B95E88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8DF-B659-41BD-9534-7E849B88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78F-16A0-43EA-8DC1-DE993126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2A4-E8B8-41E2-A9C4-351F004B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F33-8CFA-4EC5-8359-8CA99191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DD9-A173-4D42-AB06-6B692338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3695-697F-4BED-84BF-C37481DB6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F9FA-3A97-44C8-ABBD-E045DB4654F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residentialtimeline.org/html/record.php?id=307&amp;noNav&amp;noMeta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2/Robertaylorhom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III.  The Other Side of American Lif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Unobtainable dreams”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D.  African Americans, Latinos, &amp; Native Americans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Affects towards these groups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st jobs and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liv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A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to get hired, first to get f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 La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h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D.  African Americans, Latinos,  Native Americans, &amp; Appalachia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Native Americans:  poorest of them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income = &lt;$1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Termination policy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 made them citiz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help government st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.  made it wo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Encouraged 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6464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D.  African Americans, Latinos,  Native Americans, &amp; Appalachia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Appalac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zation of coal mining increased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ts, medical care, and education worse than in inner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.  Juvenile Delinquenc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tisocial or criminal behavior of young peo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5% rise in crime between 1948 and 195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ssible caus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.V. and movies, divorce rates, racism, busy parents, lack of discipl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linquents” those who did not con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ducation and Sputni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rease in math and sci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5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. Detent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41148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of détente – easing cold war 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loped by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ixon and Hen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issing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249880" y="1980720"/>
            <a:ext cx="3743280" cy="4116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867280" y="304920"/>
            <a:ext cx="2308320" cy="349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28368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5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. Nixon goes to Chin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726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6112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tter relations between the count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uade Soviets with democ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1280" indent="0">
              <a:spcBef>
                <a:spcPts val="901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11280" indent="0">
              <a:spcBef>
                <a:spcPts val="901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Photograph of President and Mrs. Richard Nixon Touring the Great Wall of Ch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600200"/>
            <a:ext cx="368604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46360" y="0"/>
            <a:ext cx="56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.  Poverty L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llar amount set by the government that reflects the minimum income required to support a fami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533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2009 Poverty Guidelines for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 Contiguous States and the District of Columb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66920" y="1447920"/>
            <a:ext cx="7777080" cy="4559040"/>
            <a:chOff x="1366920" y="1447920"/>
            <a:chExt cx="7777080" cy="4559040"/>
          </a:xfrm>
        </p:grpSpPr>
        <p:grpSp>
          <p:nvGrpSpPr>
            <p:cNvPr id="92" name=""/>
            <p:cNvGrpSpPr/>
            <p:nvPr/>
          </p:nvGrpSpPr>
          <p:grpSpPr>
            <a:xfrm>
              <a:off x="1370880" y="1451880"/>
              <a:ext cx="7769160" cy="4549680"/>
              <a:chOff x="1370880" y="1451880"/>
              <a:chExt cx="7769160" cy="45496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1370880" y="1451880"/>
                <a:ext cx="3864960" cy="421200"/>
                <a:chOff x="1370880" y="1451880"/>
                <a:chExt cx="3864960" cy="4212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70880" y="145188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ersons in famil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370880" y="145188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5235840" y="1451880"/>
                <a:ext cx="3903840" cy="421200"/>
                <a:chOff x="5235840" y="1451880"/>
                <a:chExt cx="3903840" cy="4212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235840" y="145188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overty guidelin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235840" y="145188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70880" y="1873080"/>
                <a:ext cx="3864960" cy="421200"/>
                <a:chOff x="1370880" y="1873080"/>
                <a:chExt cx="3864960" cy="4212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70880" y="187308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370880" y="187308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235840" y="1873080"/>
                <a:ext cx="3903840" cy="421200"/>
                <a:chOff x="5235840" y="1873080"/>
                <a:chExt cx="3903840" cy="4212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235840" y="187308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$10,8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235840" y="187308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1370880" y="2294280"/>
                <a:ext cx="3864960" cy="421200"/>
                <a:chOff x="1370880" y="2294280"/>
                <a:chExt cx="3864960" cy="421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370880" y="229428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370880" y="229428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235840" y="2294280"/>
                <a:ext cx="3903840" cy="421200"/>
                <a:chOff x="5235840" y="2294280"/>
                <a:chExt cx="3903840" cy="4212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235840" y="229428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4,57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235840" y="229428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370880" y="2715840"/>
                <a:ext cx="3864960" cy="421200"/>
                <a:chOff x="1370880" y="2715840"/>
                <a:chExt cx="3864960" cy="4212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370880" y="271584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370880" y="271584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235840" y="2715840"/>
                <a:ext cx="3903840" cy="421200"/>
                <a:chOff x="5235840" y="2715840"/>
                <a:chExt cx="3903840" cy="4212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235840" y="271584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8,3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35840" y="271584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370880" y="3137040"/>
                <a:ext cx="3864960" cy="421200"/>
                <a:chOff x="1370880" y="3137040"/>
                <a:chExt cx="3864960" cy="4212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370880" y="313704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370880" y="313704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235840" y="3137040"/>
                <a:ext cx="3903840" cy="421200"/>
                <a:chOff x="5235840" y="3137040"/>
                <a:chExt cx="3903840" cy="4212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235840" y="313704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2,0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235840" y="313704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370880" y="3558600"/>
                <a:ext cx="3864960" cy="421200"/>
                <a:chOff x="1370880" y="3558600"/>
                <a:chExt cx="3864960" cy="421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370880" y="355860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370880" y="355860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5235840" y="3558600"/>
                <a:ext cx="3903840" cy="421200"/>
                <a:chOff x="5235840" y="3558600"/>
                <a:chExt cx="3903840" cy="421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235840" y="355860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,79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235840" y="355860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370880" y="3979800"/>
                <a:ext cx="3864960" cy="421200"/>
                <a:chOff x="1370880" y="3979800"/>
                <a:chExt cx="3864960" cy="421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370880" y="397980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70880" y="397980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235840" y="3979800"/>
                <a:ext cx="3903840" cy="421200"/>
                <a:chOff x="5235840" y="3979800"/>
                <a:chExt cx="3903840" cy="421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235840" y="397980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9,5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35840" y="397980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370880" y="4401360"/>
                <a:ext cx="3864960" cy="421200"/>
                <a:chOff x="1370880" y="4401360"/>
                <a:chExt cx="3864960" cy="421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370880" y="440136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370880" y="440136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235840" y="4401360"/>
                <a:ext cx="3903840" cy="421200"/>
                <a:chOff x="5235840" y="4401360"/>
                <a:chExt cx="3903840" cy="421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235840" y="440136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3,27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235840" y="440136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370880" y="4822560"/>
                <a:ext cx="3864960" cy="421200"/>
                <a:chOff x="1370880" y="4822560"/>
                <a:chExt cx="3864960" cy="421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370880" y="4822560"/>
                  <a:ext cx="386496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370880" y="4822560"/>
                  <a:ext cx="386496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235840" y="4822560"/>
                <a:ext cx="3903840" cy="421200"/>
                <a:chOff x="5235840" y="4822560"/>
                <a:chExt cx="3903840" cy="4212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235840" y="4822560"/>
                  <a:ext cx="3903840" cy="42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7,0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235840" y="4822560"/>
                  <a:ext cx="3903840" cy="421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370880" y="5244120"/>
                <a:ext cx="7769160" cy="757440"/>
                <a:chOff x="1370880" y="5244120"/>
                <a:chExt cx="7769160" cy="757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370880" y="5244120"/>
                  <a:ext cx="7769160" cy="75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or families with more than 8 persons, add $3,740 for each additional person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70880" y="5244120"/>
                  <a:ext cx="7769160" cy="7574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366920" y="1447920"/>
              <a:ext cx="7777080" cy="455904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14360" y="309600"/>
            <a:ext cx="8729640" cy="65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</a:rPr>
              <a:t>B.  The Other Americ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m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d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erto Ricans/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ral: Whites &amp; B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r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living the prosperity of middle-class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89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.  “White Flight”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Americans leaving the cities, along with their money, and moving to the suburb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ban Renewal: tear down the old, build up the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Low income housing: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Made families move once they get a job = makes it difficult to save and get a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33720" y="1442880"/>
            <a:ext cx="6172200" cy="52088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throp Hom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File:Robertaylorhom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71680"/>
            <a:ext cx="731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3-16T15:14:38Z</dcterms:modified>
  <cp:revision>6</cp:revision>
  <dc:subject/>
  <dc:title>PowerPoint Presentation</dc:title>
</cp:coreProperties>
</file>